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342-C9AF-4A7B-B173-FEC3DECE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BE3-92AC-4CF6-BEC8-F45609E3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B86-92DF-499B-8073-3A7C0B88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8B5-A3DA-4C0C-823C-EFDEB45A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01F6-2433-43B9-94C6-8D56A46C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9929-825E-4994-880F-03023919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9D07-E0EA-422C-8A6F-762779FC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9E7C-0F4C-41BA-B697-15C71A1D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F7C8-ECDA-46EF-AABC-577689E6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AE88-6E6E-41FE-9DD5-EE1D62DB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DBF3-128F-4913-97E2-19514BB9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412-0B12-4D13-89AA-2D2D49E4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A893-C0C0-451C-BFD2-EEF17700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0863-5C3E-4B6A-987D-AF1508FE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5454-6324-4C1D-92B2-D0FBC958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4E3B-73C0-4F49-8109-3A2A475F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E9B3-2DE7-422A-9867-8BA0BE05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702-01EB-4407-9F63-5F4D51DC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58A4-C021-4470-96A6-79DB3250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F89-B8C4-4D71-B962-A033FE60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7D1-AA21-4213-B290-FC434C2A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7B7-C826-4F37-965E-EEE0A348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4B6-5EAD-4FCC-9752-36F7C0AB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A19-16FE-44C2-B3D4-64993E41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5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8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8383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9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868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1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8a8a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c4a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e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9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4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c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8a8a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6125-84EC-4A09-8DBD-B1151E0BB4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5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8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8383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9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868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1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8a8a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c4a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e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9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4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c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8a8a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65EE-B6D1-40AD-9563-FA0CC73FC1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352b8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2012 Web Site Experience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anuary 26, 20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SCTA Annual Me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bile Visits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533520"/>
          <a:ext cx="8137440" cy="5597280"/>
        </p:xfrm>
        <a:graphic>
          <a:graphicData uri="http://schemas.openxmlformats.org/drawingml/2006/table">
            <a:tbl>
              <a:tblPr/>
              <a:tblGrid>
                <a:gridCol w="1644480"/>
                <a:gridCol w="1316160"/>
                <a:gridCol w="1314360"/>
                <a:gridCol w="1224000"/>
                <a:gridCol w="1319400"/>
                <a:gridCol w="1319040"/>
              </a:tblGrid>
              <a:tr h="229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bile (Including Tablet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es / Visi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. Visit Dur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New Visi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unce 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7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3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.7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3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.7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.4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.1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.2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Visits by Source</a:t>
            </a:r>
            <a:br>
              <a:rPr sz="4000"/>
            </a:br>
            <a:r>
              <a:rPr b="0" lang="en-US" sz="1600" spc="-1" strike="noStrike">
                <a:solidFill>
                  <a:srgbClr val="e2efcd"/>
                </a:solidFill>
                <a:latin typeface="Arial"/>
              </a:rPr>
              <a:t>Source:  Google Analytics</a:t>
            </a:r>
            <a:endParaRPr b="0" lang="en-US" sz="16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762120"/>
          <a:ext cx="8229600" cy="7214760"/>
        </p:xfrm>
        <a:graphic>
          <a:graphicData uri="http://schemas.openxmlformats.org/drawingml/2006/table">
            <a:tbl>
              <a:tblPr/>
              <a:tblGrid>
                <a:gridCol w="3327480"/>
                <a:gridCol w="981000"/>
                <a:gridCol w="979560"/>
                <a:gridCol w="981000"/>
                <a:gridCol w="979560"/>
                <a:gridCol w="981000"/>
              </a:tblGrid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/ Mediu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es / Visi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. Visit Dur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New Visi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unce 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gle / org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1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6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direct) / (non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.9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.7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ng / org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5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4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newstribune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.1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8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attletimes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3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tri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.7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9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s.usda.gov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.3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hoo / org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.7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attleschild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.0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6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deofpierce.posterous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5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.5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2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homish.org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.8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.9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attle.about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.7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.5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acres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3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8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olympian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3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uble4treefarm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aldnet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.3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9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gle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6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.5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ville.amazon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3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.7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l / org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.7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8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cast / org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iftynorthwestmom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.2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.7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ylon / org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12: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2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1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shoeevergreen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.9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.5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etreefarms.com / referr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6: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.7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.2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Farm Pages Visited </a:t>
            </a:r>
            <a:r>
              <a:rPr b="0" lang="en-US" sz="1800" spc="-1" strike="noStrike">
                <a:solidFill>
                  <a:srgbClr val="e2efcd"/>
                </a:solidFill>
                <a:latin typeface="Arial"/>
              </a:rPr>
              <a:t>Source:  Google Analytics</a:t>
            </a:r>
            <a:endParaRPr b="0" lang="en-US" sz="18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380880"/>
          <a:ext cx="8229600" cy="14276160"/>
        </p:xfrm>
        <a:graphic>
          <a:graphicData uri="http://schemas.openxmlformats.org/drawingml/2006/table">
            <a:tbl>
              <a:tblPr/>
              <a:tblGrid>
                <a:gridCol w="4633920"/>
                <a:gridCol w="584280"/>
                <a:gridCol w="992160"/>
                <a:gridCol w="1044360"/>
                <a:gridCol w="974880"/>
              </a:tblGrid>
              <a:tr h="977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an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ageview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Unique Pageview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vg. Time on P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mountain-creek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serres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glenwood-u-cut-christma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ohop-ridge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promised-land-u-cut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oliday-mountain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snowshoe-evergreen-choose-and-cut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lochsloy-acr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arveys-harvest-christmas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wilson-hill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reade-christmas-tree-2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double-four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ronnei-christma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trinity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stocker-farm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0: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arters-tree-farm-2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trees-n-b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fish-creek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oliday-u-cut-christmas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oliday-forest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hristmas-creek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0: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ox-christmas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keith-scott-tree-farm-on-the-middle-fork-s-ranch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rystal-creek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tree-patch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0: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yeisleys-tiger-mountain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enchanted-wind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pilchuck-secret-valley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arnation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pfaffs-u-cut-christmas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farmer-brown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three-tree-farm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illside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rown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mt-rainier-nobl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4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patersons-lazy-acre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seven-spring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five-spring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lyde-n-dales-holiday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tinseltown-trees-2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enry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jp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unckle-eek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black-lake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mountain-view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0: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alan-acr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ows-in-the-christmas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papa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0: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big-lake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0: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hunter-christmas-trees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carnation-tree-farm/www.carnationtreefarm.com/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alpine-meadows-tree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1: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place/tazer-valley-farm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752480" y="3962520"/>
            <a:ext cx="18068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SCTA Ho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838080"/>
            <a:ext cx="21495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SCTA Lochsloy Acres Farm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3886200"/>
            <a:ext cx="16765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hsloy Acres Web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487692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8 Referr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733920" y="4419720"/>
            <a:ext cx="1828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362320" y="1676160"/>
            <a:ext cx="1447560" cy="2057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1828800"/>
            <a:ext cx="1752840" cy="1905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8 Unique Page Vie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2362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9 Referr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2920" y="5715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47 Unique Vis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5715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23 Unique Vis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447920" y="4800240"/>
            <a:ext cx="68580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7086240" y="4876560"/>
            <a:ext cx="68580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Optimization Data </a:t>
            </a:r>
            <a:br>
              <a:rPr sz="2000"/>
            </a:br>
            <a:r>
              <a:rPr b="0" lang="en-US" sz="2000" spc="-1" strike="noStrike">
                <a:solidFill>
                  <a:srgbClr val="e2efcd"/>
                </a:solidFill>
                <a:latin typeface="Arial"/>
              </a:rPr>
              <a:t>Lochsloy Acres</a:t>
            </a: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2efcd"/>
                </a:solidFill>
                <a:latin typeface="Arial"/>
              </a:rPr>
              <a:t>Source:  Google Analytics</a:t>
            </a:r>
            <a:endParaRPr b="0" lang="en-US" sz="16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990720"/>
          <a:ext cx="8229600" cy="6347880"/>
        </p:xfrm>
        <a:graphic>
          <a:graphicData uri="http://schemas.openxmlformats.org/drawingml/2006/table">
            <a:tbl>
              <a:tblPr/>
              <a:tblGrid>
                <a:gridCol w="4030560"/>
                <a:gridCol w="1117800"/>
                <a:gridCol w="923760"/>
                <a:gridCol w="1136880"/>
                <a:gridCol w="1020600"/>
              </a:tblGrid>
              <a:tr h="437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essio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ck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Posi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 acr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5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 christmas tree far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4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 acres christmas tree far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7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 acres lake steve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stevens christmas tree far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2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 acres tree far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2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 lake stevens 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hsloy tree far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 in snohomish coun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s everett 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.7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s everett 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s snohomish county 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t christmas tree farms snohomish coun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 snohomish coun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7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lights snohomish coun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cut christmas trees snohomis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s snohomish coun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homish christmas tree farm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s marysville 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 granite fal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 marysville 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tree farm snohomis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ve Up Proposal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sive discussion how to improve ranking – limited by sea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 Recommendation - Marketing campa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onth Campaign – Thanksgiving to week before Christ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-Up Fixed Cost - 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best search str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TOD/DOY effectiv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CTR and Modify a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gle Ad Words Budget - $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- $1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Plan “B”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 on all the farms until Ju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dues – turn off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ogle “loses”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Google “Christmas tree farm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e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and select PSCTA.org listing to get activity – improve “quality” r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a budget for Google Ad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directly with Google to set up campaign – 11/25 – 12/22 (or $$ go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ad Fri/Sat/Sun 8am-2pm 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s on effectiv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ila will set it up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l decisions are finalized so it can be done before the fall meeting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Plan C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ranking on Google fall wherever it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money and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90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2efcd"/>
                </a:solidFill>
                <a:latin typeface="Arial"/>
              </a:rPr>
              <a:t>DISCUSSION</a:t>
            </a:r>
            <a:endParaRPr b="0" lang="en-US" sz="8000" spc="-1" strike="noStrike">
              <a:solidFill>
                <a:srgbClr val="e2efc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ember Experience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password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everyone updated their l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farms ADDed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nsistent farm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write-ups more inviting than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missing pho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 overlaps in dense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Bumps in the Road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Characters not allowed in Names – crashed the map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Name Exp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 Disappeared from Site after security up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seltown Kept Disappe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 Analytics Not Fully Turned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 Analytics Turned Off 12/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Promotion Challenge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into Newspaper 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nsive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s $1350 for 2-4” 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ett Herald – about $600 for 2 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ed about running Web Campa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PSCTA ad Fri/Sat/Sun AM on Goo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ed Thanksgiving week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listing in paid 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 daily until Google gave site top rating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228600" y="0"/>
          <a:ext cx="8686800" cy="54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68680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469880" y="6164280"/>
            <a:ext cx="340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58672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rch Terns – Christmas trees, christmas tree farms, local christmas tree farms, local christmas trees, ucut christmas tr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867280" y="2590920"/>
            <a:ext cx="1828800" cy="75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019920" y="2666880"/>
            <a:ext cx="2209680" cy="152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Google – the 500 lb Canary</a:t>
            </a:r>
            <a:br>
              <a:rPr sz="4000"/>
            </a:b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First Page Placement Issue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analysis but anecdotal evidence has us beyond the first page – sometimes WAY beyond –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WCTA changed their name and reformatted site mid-season -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 changed search/display algorithm – random sites ahead of us –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y – domain name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Site Visits by Date</a:t>
            </a:r>
            <a:br>
              <a:rPr sz="4400"/>
            </a:br>
            <a:r>
              <a:rPr b="0" lang="en-US" sz="1800" spc="-1" strike="noStrike">
                <a:solidFill>
                  <a:srgbClr val="e2efcd"/>
                </a:solidFill>
                <a:latin typeface="Arial"/>
              </a:rPr>
              <a:t>Source:  Google Analytics</a:t>
            </a:r>
            <a:endParaRPr b="0" lang="en-US" sz="18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1550880"/>
          <a:ext cx="8381880" cy="530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0880"/>
                    <a:ext cx="838188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Site Visits by Hour</a:t>
            </a:r>
            <a:br>
              <a:rPr sz="4400"/>
            </a:br>
            <a:r>
              <a:rPr b="0" lang="en-US" sz="1800" spc="-1" strike="noStrike">
                <a:solidFill>
                  <a:srgbClr val="e2efcd"/>
                </a:solidFill>
                <a:latin typeface="Arial"/>
              </a:rPr>
              <a:t>Source:  Google Analytics</a:t>
            </a:r>
            <a:endParaRPr b="0" lang="en-US" sz="18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0" y="1371600"/>
          <a:ext cx="94489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4489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Visits by Origin </a:t>
            </a:r>
            <a:r>
              <a:rPr b="0" lang="en-US" sz="1800" spc="-1" strike="noStrike">
                <a:solidFill>
                  <a:srgbClr val="e2efcd"/>
                </a:solidFill>
                <a:latin typeface="Arial"/>
              </a:rPr>
              <a:t>Source:  Google Analytics</a:t>
            </a:r>
            <a:endParaRPr b="0" lang="en-US" sz="1800" spc="-1" strike="noStrike">
              <a:solidFill>
                <a:srgbClr val="e2efcd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838080"/>
          <a:ext cx="8229600" cy="8929440"/>
        </p:xfrm>
        <a:graphic>
          <a:graphicData uri="http://schemas.openxmlformats.org/drawingml/2006/table">
            <a:tbl>
              <a:tblPr/>
              <a:tblGrid>
                <a:gridCol w="2335320"/>
                <a:gridCol w="1006200"/>
                <a:gridCol w="1222560"/>
                <a:gridCol w="1222200"/>
                <a:gridCol w="1221120"/>
                <a:gridCol w="122220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es / Visi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. Visit Dur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New Visi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unce 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att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3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5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4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co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5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0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ynnw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.9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.3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yallu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.9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9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evu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.6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.1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mo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.1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8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et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.8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8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nt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6: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.0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2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hel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6: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.1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.2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untlake Terrac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homis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.8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7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g Harbo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0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3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rkl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8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0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le Valle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3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.8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ymp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5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.5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deral W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.3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0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ahur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6: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.3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7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mond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.2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1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bur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.8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po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.5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er Isla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5: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.7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1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ysvil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h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.5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.4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w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.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0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saqua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4:5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.5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unt Vern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3: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mamis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7: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.1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5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naw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7: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nmo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5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.7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.75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ke Steve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2: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.6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n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:07: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01:50:46Z</dcterms:created>
  <dc:creator>Sheila McKinnon</dc:creator>
  <dc:description/>
  <dc:language>en-US</dc:language>
  <cp:lastModifiedBy>Sheila McKinnon</cp:lastModifiedBy>
  <dcterms:modified xsi:type="dcterms:W3CDTF">2013-01-26T04:09:53Z</dcterms:modified>
  <cp:revision>6</cp:revision>
  <dc:subject/>
  <dc:title>2012 Web Site Experience</dc:title>
</cp:coreProperties>
</file>