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09B-6DE9-46E3-950D-B9562597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42F-D11F-4879-99A8-F5251BC8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228-9976-49B7-8AE9-8238E91B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D3F-5C0F-46BC-8DB0-9EC76460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C558-51D7-4E90-AC2A-D3BA6FC1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5C5D-2822-4567-88AA-5815504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1587-8206-403F-AB99-1C130C03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45E-8E4F-472E-8DA6-EF3A99C8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3684-A1D7-4921-841C-819216A2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F44B-E612-490C-94EC-87A33341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8791-E6FC-415B-8775-33BAD04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BD4-2BE5-4A51-82A1-4B073B3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435-CAC0-43A0-9377-FFA0225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326-C9F2-4911-B936-7C22270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83A-690D-4E38-98C9-256440C3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BAE3-18E0-4887-9DB9-EF29BBB1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86A0-CDCD-485A-9FC2-9AE7B88F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C3E-5B62-4A23-9286-DCEF028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26B-3210-4BDF-BD2C-3AF0580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F3B-CB84-4127-82C8-1D267683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2A2-D8CD-4D45-8515-109CF76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1FB-E3B2-4F0B-94FD-7AC8CC13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1C6-2151-4ECC-A5F7-AD9ED72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5FD-1DB5-4C29-B2A6-05922AA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57F4-5241-4CE8-A08E-B96CE79E6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BAB-A584-45D2-BD2B-982525502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2012 Web Site Experience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uary 26, 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CTA Annual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bile Visit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533520"/>
          <a:ext cx="8137440" cy="5597280"/>
        </p:xfrm>
        <a:graphic>
          <a:graphicData uri="http://schemas.openxmlformats.org/drawingml/2006/table">
            <a:tbl>
              <a:tblPr/>
              <a:tblGrid>
                <a:gridCol w="1644480"/>
                <a:gridCol w="1316160"/>
                <a:gridCol w="1314360"/>
                <a:gridCol w="1224000"/>
                <a:gridCol w="1319400"/>
                <a:gridCol w="1319040"/>
              </a:tblGrid>
              <a:tr h="22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 (Including Table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Visits by Source</a:t>
            </a:r>
            <a:br>
              <a:rPr sz="4000"/>
            </a:br>
            <a:r>
              <a:rPr b="0" lang="en-US" sz="16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6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762120"/>
          <a:ext cx="8229600" cy="7214760"/>
        </p:xfrm>
        <a:graphic>
          <a:graphicData uri="http://schemas.openxmlformats.org/drawingml/2006/table">
            <a:tbl>
              <a:tblPr/>
              <a:tblGrid>
                <a:gridCol w="3327480"/>
                <a:gridCol w="981000"/>
                <a:gridCol w="979560"/>
                <a:gridCol w="981000"/>
                <a:gridCol w="979560"/>
                <a:gridCol w="981000"/>
              </a:tblGrid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/ Medi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gle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1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irect) / (non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.7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g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4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ewstribune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1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time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3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tri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s.usda.gov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3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hoo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schild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0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deofpierce.posterou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.org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9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.about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acre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3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olympia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3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4treefarm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aldnet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gle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6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5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ville.amazo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l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cast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iftynorthwestmom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lon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12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1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shoeevergree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etreefarm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Farm Pages Visited </a:t>
            </a: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380880"/>
          <a:ext cx="8229600" cy="14276160"/>
        </p:xfrm>
        <a:graphic>
          <a:graphicData uri="http://schemas.openxmlformats.org/drawingml/2006/table">
            <a:tbl>
              <a:tblPr/>
              <a:tblGrid>
                <a:gridCol w="4633920"/>
                <a:gridCol w="584280"/>
                <a:gridCol w="992160"/>
                <a:gridCol w="1044360"/>
                <a:gridCol w="974880"/>
              </a:tblGrid>
              <a:tr h="97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geview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nique Pageview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vg. Time on P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ountain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erres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glenwood-u-cut-christm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ohop-ridge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romised-land-u-cu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mountain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nowshoe-evergreen-choose-and-cu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lochsloy-acr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arveys-harves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wilson-hill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reade-christmas-tree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double-four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ronnei-christm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inity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tocker-farm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arters-tree-farm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ees-n-b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ish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u-cu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fores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hristmas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ox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keith-scott-tree-farm-on-the-middle-fork-s-ranch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rystal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ee-patch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yeisleys-tiger-mountai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enchanted-wind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ilchuck-secret-valley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arnatio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faffs-u-cu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armer-brown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hree-tree-farm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illside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row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t-rainier-nobl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atersons-lazy-acre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even-spring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ive-spring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lyde-n-dales-holiday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inseltown-trees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enry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jp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unckle-eek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black-lake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ountain-view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alan-acr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ows-in-the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ap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big-lake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unter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arnation-tree-farm/www.carnationtreefarm.com/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alpine-meadow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azer-valley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52480" y="3962520"/>
            <a:ext cx="1806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CTA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838080"/>
            <a:ext cx="2149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CTA Lochsloy Acres Farm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886200"/>
            <a:ext cx="16765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hsloy Acres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8769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8 Refer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920" y="4419720"/>
            <a:ext cx="182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62320" y="1676160"/>
            <a:ext cx="1447560" cy="2057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828800"/>
            <a:ext cx="1752840" cy="1905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8 Unique Page Vi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9 Refer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715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47 Unique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23 Unique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4800240"/>
            <a:ext cx="685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086240" y="4876560"/>
            <a:ext cx="685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Optimization Data </a:t>
            </a:r>
            <a:br>
              <a:rPr sz="2000"/>
            </a:br>
            <a:r>
              <a:rPr b="0" lang="en-US" sz="2000" spc="-1" strike="noStrike">
                <a:solidFill>
                  <a:srgbClr val="e2efcd"/>
                </a:solidFill>
                <a:latin typeface="Arial"/>
              </a:rPr>
              <a:t>Lochsloy Acres</a:t>
            </a: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6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990720"/>
          <a:ext cx="8229600" cy="6347880"/>
        </p:xfrm>
        <a:graphic>
          <a:graphicData uri="http://schemas.openxmlformats.org/drawingml/2006/table">
            <a:tbl>
              <a:tblPr/>
              <a:tblGrid>
                <a:gridCol w="4030560"/>
                <a:gridCol w="1117800"/>
                <a:gridCol w="923760"/>
                <a:gridCol w="1136880"/>
                <a:gridCol w="1020600"/>
              </a:tblGrid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essio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Pos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lake steve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tevens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lake stevens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in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everett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s everett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snohomish county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christmas tree farm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light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cut christmas trees 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 christmas tree far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s marysville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granite fa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marysville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ve Up Proposal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discussion how to improve ranking – limited by sea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Recommendation - Marketing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 Campaign – Thanksgiving to week before Christ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-Up Fixed Cost - 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best search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TOD/DOY effe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CTR and Modify a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Ad Words Budget - $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$1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lan “B”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on all the farms until J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ues – turn of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ogle “loses”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Google “Christmas tree farm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select PSCTA.org listing to get activity – improve “quality” r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budget for Google Ad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directly with Google to set up campaign – 11/25 – 12/22 (or $$ g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ad Fri/Sat/Sun 8am-2pm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on 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ila will set it up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decisions are finalized so it can be done before the fall meeting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lan C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ranking on Google fall wherever i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oney and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2efcd"/>
                </a:solidFill>
                <a:latin typeface="Arial"/>
              </a:rPr>
              <a:t>DISCUSSION</a:t>
            </a:r>
            <a:endParaRPr b="0" lang="en-US" sz="8000" spc="-1" strike="noStrike">
              <a:solidFill>
                <a:srgbClr val="e2ef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ember Experience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passwor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everyone updated their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farms ADDed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 farm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rite-ups more inviting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issing ph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overlaps in dens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Bumps in the Road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 not allowed in Names – crashed the m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Name Exp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appeared from Site after security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seltown Kept Disapp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Analytics Not Fully Turned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Analytics Turned Off 12/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romotion Challenge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into Newspaper 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s $1350 for 2-4”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ett Herald – about $600 for 2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ed about running Web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PSCTA ad Fri/Sat/Sun AM 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Thanksgiving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listing in paid 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 daily until Google gave site top rating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8600" y="0"/>
          <a:ext cx="868680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469880" y="6164280"/>
            <a:ext cx="340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867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Terns – Christmas trees, christmas tree farms, local christmas tree farms, local christmas trees, ucut christmas tr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867280" y="2590920"/>
            <a:ext cx="182880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019920" y="2666880"/>
            <a:ext cx="220968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Google – the 500 lb Canary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First Page Placement Issue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nalysis but anecdotal evidence has us beyond the first page – sometimes WAY beyond –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WCTA changed their name and reformatted site mid-season -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changed search/display algorithm – random sites ahead of us –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– domain nam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Site Visits by Date</a:t>
            </a:r>
            <a:br>
              <a:rPr sz="4400"/>
            </a:b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550880"/>
          <a:ext cx="8381880" cy="530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0880"/>
                    <a:ext cx="838188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Site Visits by Hour</a:t>
            </a:r>
            <a:br>
              <a:rPr sz="4400"/>
            </a:b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371600"/>
          <a:ext cx="94489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448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Visits by Origin </a:t>
            </a: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838080"/>
          <a:ext cx="8229600" cy="8929440"/>
        </p:xfrm>
        <a:graphic>
          <a:graphicData uri="http://schemas.openxmlformats.org/drawingml/2006/table">
            <a:tbl>
              <a:tblPr/>
              <a:tblGrid>
                <a:gridCol w="2335320"/>
                <a:gridCol w="1006200"/>
                <a:gridCol w="1222560"/>
                <a:gridCol w="1222200"/>
                <a:gridCol w="1221120"/>
                <a:gridCol w="122220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5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0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ynnw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9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yallu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ev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1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mo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et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e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lake Terra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g Harb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0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r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le Valle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3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ymp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 W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hur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mon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bur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o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er Is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ysvil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h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w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saqua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 Vern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ma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naw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m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teve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1:50:46Z</dcterms:created>
  <dc:creator>Sheila McKinnon</dc:creator>
  <dc:description/>
  <dc:language>en-US</dc:language>
  <cp:lastModifiedBy>Sheila McKinnon</cp:lastModifiedBy>
  <dcterms:modified xsi:type="dcterms:W3CDTF">2013-01-26T04:09:53Z</dcterms:modified>
  <cp:revision>6</cp:revision>
  <dc:subject/>
  <dc:title>2012 Web Site Experience</dc:title>
</cp:coreProperties>
</file>