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E77-9992-4F05-A864-ACCAD79B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D1C-8CA8-44EB-949A-7DB167B5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2A4-F403-429F-BA9C-AC095886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6E6-5371-436D-A791-767EB31B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E803-1541-4588-AC5D-3BDF3639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D7E4-CE43-4972-B140-5B17579F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AC61-2EBB-467F-91AD-C66193D2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C633-808D-438D-9499-B3DAD0DA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CDCC-199F-454F-B416-45CC0C66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E9EE-317B-4D06-8DF3-2830B173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D42C-FF67-4DF3-AE40-CF9E2EAC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158-4971-4B7F-A308-18FED7CB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EFA6-26B5-4595-946B-E5C0B28E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8718-6588-4AF0-9FDC-842F7A86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7542-DA9E-40AB-86D5-927EF26E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A11C-F4D2-472D-95D1-C7F13F6A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86AD-06FC-4E50-9EBF-B6EBD6FE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052-FAB2-440F-ABC0-C0E295E5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355-9FF7-4FBF-9948-FDC7600A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B84-1D90-43BB-ACF4-122ED6B8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650-F525-4B3B-B702-D86F5397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B56-1300-4AA7-AE69-93781A88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32A-9BF8-42ED-9527-31EF140E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4C4-D6F0-4701-80A2-326C6285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2BE7-B5D7-4DE8-985D-D8732CCCF3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1B6B-A5A9-47A0-8D24-11EAB5232E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352b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2012 Web Site Experience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anuary 26, 20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SCTA Annual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bile Visits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533520"/>
          <a:ext cx="8137440" cy="5597280"/>
        </p:xfrm>
        <a:graphic>
          <a:graphicData uri="http://schemas.openxmlformats.org/drawingml/2006/table">
            <a:tbl>
              <a:tblPr/>
              <a:tblGrid>
                <a:gridCol w="1644480"/>
                <a:gridCol w="1316160"/>
                <a:gridCol w="1314360"/>
                <a:gridCol w="1224000"/>
                <a:gridCol w="1319400"/>
                <a:gridCol w="1319040"/>
              </a:tblGrid>
              <a:tr h="22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bile (Including Table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es / Visi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. Visit Du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New 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nce 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7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3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3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.7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4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.1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.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Visits by Source</a:t>
            </a:r>
            <a:br>
              <a:rPr sz="4000"/>
            </a:br>
            <a:r>
              <a:rPr b="0" lang="en-US" sz="16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6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762120"/>
          <a:ext cx="8229600" cy="7214760"/>
        </p:xfrm>
        <a:graphic>
          <a:graphicData uri="http://schemas.openxmlformats.org/drawingml/2006/table">
            <a:tbl>
              <a:tblPr/>
              <a:tblGrid>
                <a:gridCol w="3327480"/>
                <a:gridCol w="981000"/>
                <a:gridCol w="979560"/>
                <a:gridCol w="981000"/>
                <a:gridCol w="979560"/>
                <a:gridCol w="981000"/>
              </a:tblGrid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/ Medi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es / Visi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. Visit Du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New 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nce 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gle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1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6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direct) / (non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.9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.7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g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5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4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newstribune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1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8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ttletimes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3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tri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.7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s.usda.gov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3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hoo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7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ttleschild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0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deofpierce.posterous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5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2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homish.org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8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9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ttle.about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7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5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acres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3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8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olympian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3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uble4treefarm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aldnet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3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gle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6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.5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ville.amazon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l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7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8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cast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iftynorthwestmom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.7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ylon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12: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2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1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shoeevergreen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9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5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etreefarms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6: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.7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Farm Pages Visited </a:t>
            </a:r>
            <a:r>
              <a:rPr b="0" lang="en-US" sz="18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8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380880"/>
          <a:ext cx="8229600" cy="14276160"/>
        </p:xfrm>
        <a:graphic>
          <a:graphicData uri="http://schemas.openxmlformats.org/drawingml/2006/table">
            <a:tbl>
              <a:tblPr/>
              <a:tblGrid>
                <a:gridCol w="4633920"/>
                <a:gridCol w="584280"/>
                <a:gridCol w="992160"/>
                <a:gridCol w="1044360"/>
                <a:gridCol w="974880"/>
              </a:tblGrid>
              <a:tr h="97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an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ageview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Unique Pageview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vg. Time on P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mountain-creek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serres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glenwood-u-cut-christma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ohop-ridge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romised-land-u-cut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oliday-mountain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snowshoe-evergreen-choose-and-cut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lochsloy-acr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arveys-harvest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wilson-hill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reade-christmas-tree-2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double-four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ronnei-christma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rinity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stocker-farm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arters-tree-farm-2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rees-n-b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fish-creek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oliday-u-cut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oliday-forest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hristmas-creek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ox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keith-scott-tree-farm-on-the-middle-fork-s-ranch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rystal-creek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ree-patch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yeisleys-tiger-mountain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enchanted-wind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ilchuck-secret-valley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arnation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faffs-u-cut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farmer-brown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hree-tree-farm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illside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rown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mt-rainier-nobl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atersons-lazy-acre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seven-spring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five-spring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lyde-n-dales-holiday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inseltown-trees-2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enry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jp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unckle-eek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black-lake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mountain-view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alan-acr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ows-in-the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apa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big-lake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unter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arnation-tree-farm/www.carnationtreefarm.com/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alpine-meadow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azer-valley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52480" y="3962520"/>
            <a:ext cx="18068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CTA 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838080"/>
            <a:ext cx="21495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CTA Lochsloy Acres Farm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886200"/>
            <a:ext cx="16765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hsloy Acres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487692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8 Referr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733920" y="4419720"/>
            <a:ext cx="1828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362320" y="1676160"/>
            <a:ext cx="1447560" cy="2057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1828800"/>
            <a:ext cx="1752840" cy="1905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8 Unique Page Vi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2362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9 Referr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5715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47 Unique Vis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5715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23 Unique Vis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447920" y="4800240"/>
            <a:ext cx="6858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086240" y="4876560"/>
            <a:ext cx="6858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Optimization Data </a:t>
            </a:r>
            <a:br>
              <a:rPr sz="2000"/>
            </a:br>
            <a:r>
              <a:rPr b="0" lang="en-US" sz="2000" spc="-1" strike="noStrike">
                <a:solidFill>
                  <a:srgbClr val="e2efcd"/>
                </a:solidFill>
                <a:latin typeface="Arial"/>
              </a:rPr>
              <a:t>Lochsloy Acres</a:t>
            </a: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6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990720"/>
          <a:ext cx="8229600" cy="6347880"/>
        </p:xfrm>
        <a:graphic>
          <a:graphicData uri="http://schemas.openxmlformats.org/drawingml/2006/table">
            <a:tbl>
              <a:tblPr/>
              <a:tblGrid>
                <a:gridCol w="4030560"/>
                <a:gridCol w="1117800"/>
                <a:gridCol w="923760"/>
                <a:gridCol w="1136880"/>
                <a:gridCol w="1020600"/>
              </a:tblGrid>
              <a:tr h="43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essio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Posi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ac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christmas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4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acres christmas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7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acres lake steve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stevens christmas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2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acres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2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lake stevens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in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s everett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s everett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s snohomish county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t christmas tree farms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lights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cut christmas trees snohomis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s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homish christmas tree farm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s marysville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granite fal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marysville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snohomis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ve Up Proposal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sive discussion how to improve ranking – limited by sea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Recommendation - Marketing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 Campaign – Thanksgiving to week before Christ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-Up Fixed Cost - 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best search st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TOD/DOY effectiv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CTR and Modify a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gle Ad Words Budget - $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- $1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Plan “B”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on all the farms until Ju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ues – turn off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ogle “loses”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Google “Christmas tree farm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and select PSCTA.org listing to get activity – improve “quality” r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 budget for Google Ad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directly with Google to set up campaign – 11/25 – 12/22 (or $$ g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ad Fri/Sat/Sun 8am-2pm 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s on effec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ila will set it up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l decisions are finalized so it can be done before the fall meeting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Plan C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ranking on Google fall wherever it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money and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90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2efcd"/>
                </a:solidFill>
                <a:latin typeface="Arial"/>
              </a:rPr>
              <a:t>DISCUSSION</a:t>
            </a:r>
            <a:endParaRPr b="0" lang="en-US" sz="8000" spc="-1" strike="noStrike">
              <a:solidFill>
                <a:srgbClr val="e2ef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ember Experience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password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everyone updated their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farms ADDed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t farm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write-ups more inviting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missing pho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 overlaps in dense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Bumps in the Road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Characters not allowed in Names – crashed the ma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Name Exp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Disappeared from Site after security 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seltown Kept Disappe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Analytics Not Fully Turned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Analytics Turned Off 12/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Promotion Challenge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into Newspaper 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s $1350 for 2-4” 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ett Herald – about $600 for 2 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ed about running Web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PSCTA ad Fri/Sat/Sun AM on Goo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Thanksgiving wee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listing in paid 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 daily until Google gave site top rating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28600" y="0"/>
          <a:ext cx="868680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868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469880" y="6164280"/>
            <a:ext cx="340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5867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 Terns – Christmas trees, christmas tree farms, local christmas tree farms, local christmas trees, ucut christmas tr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867280" y="2590920"/>
            <a:ext cx="1828800" cy="75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019920" y="2666880"/>
            <a:ext cx="220968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Google – the 500 lb Canary</a:t>
            </a:r>
            <a:br>
              <a:rPr sz="4000"/>
            </a:b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First Page Placement Issue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nalysis but anecdotal evidence has us beyond the first page – sometimes WAY beyond –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WCTA changed their name and reformatted site mid-season -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changed search/display algorithm – random sites ahead of us –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y – domain name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Site Visits by Date</a:t>
            </a:r>
            <a:br>
              <a:rPr sz="4400"/>
            </a:br>
            <a:r>
              <a:rPr b="0" lang="en-US" sz="18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8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1550880"/>
          <a:ext cx="8381880" cy="530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0880"/>
                    <a:ext cx="838188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Site Visits by Hour</a:t>
            </a:r>
            <a:br>
              <a:rPr sz="4400"/>
            </a:br>
            <a:r>
              <a:rPr b="0" lang="en-US" sz="18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8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1371600"/>
          <a:ext cx="94489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4489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Visits by Origin </a:t>
            </a:r>
            <a:r>
              <a:rPr b="0" lang="en-US" sz="18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8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838080"/>
          <a:ext cx="8229600" cy="8929440"/>
        </p:xfrm>
        <a:graphic>
          <a:graphicData uri="http://schemas.openxmlformats.org/drawingml/2006/table">
            <a:tbl>
              <a:tblPr/>
              <a:tblGrid>
                <a:gridCol w="2335320"/>
                <a:gridCol w="1006200"/>
                <a:gridCol w="1222560"/>
                <a:gridCol w="1222200"/>
                <a:gridCol w="1221120"/>
                <a:gridCol w="122220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es / Visi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. Visit Du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New 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nce 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tt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5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4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c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5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0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ynnw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.9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yallu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ev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1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mo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1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8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et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8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8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t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6: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0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2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e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6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1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.2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ntlake Terra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homis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8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g Harb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0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rk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8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0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le Valle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3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.8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ymp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deral W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3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hur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6: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7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mond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2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1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bur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8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po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5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er Is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.7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1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ysvil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h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5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.4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w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0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saqua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5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nt Vern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mamis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7: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1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5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naw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7: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nmo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7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7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Steve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n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7: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1:50:46Z</dcterms:created>
  <dc:creator>Sheila McKinnon</dc:creator>
  <dc:description/>
  <dc:language>en-US</dc:language>
  <cp:lastModifiedBy>Sheila McKinnon</cp:lastModifiedBy>
  <dcterms:modified xsi:type="dcterms:W3CDTF">2013-01-26T04:09:53Z</dcterms:modified>
  <cp:revision>6</cp:revision>
  <dc:subject/>
  <dc:title>2012 Web Site Experience</dc:title>
</cp:coreProperties>
</file>